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91E6-1456-40E7-9B15-63DBB7884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D56-AD5A-4A75-8DDA-8B64F3EFA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F06-281F-43AB-928C-8B084B330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F33D-B1DB-4ADF-A901-FBEE6DEC8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5FEF-5C2B-44C4-BDC6-080E27234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34B8-A378-4B7E-971E-546550E11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B79-A7E4-4B8A-A9A8-80216F4FF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8FE-3FA2-49D1-8EDF-778894080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B4E0-5B0F-4CAF-8510-CB6581066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55E-1992-48D2-AE7D-963D7643D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EEF7-2659-4776-BDBF-5130853E0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2724-63F0-4730-A657-96041EF9E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2268-C4A4-4162-A66D-E7A423BC9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51A3-82F0-4F4C-9621-F328ED9F6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821A-EA90-40E3-BD09-41B4A1A35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4A16-77FF-4E65-8263-A2FD30065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2905-65CD-4C8A-9ECF-16B34DDE8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12B-A97C-47BA-AF91-D2D87F2F3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D6D8-6908-4439-800F-268500B49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2E5-F2A2-4B83-BA83-DF4699D21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93B-1C73-460C-A391-79B66DF09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963-DDA7-4AA7-BD6D-FC168ACBC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BE1-C600-4109-B5AD-80EDAEA0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B6C-4AC3-4839-A774-8DBA5FCD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0B6-A63D-4FCF-865D-E69E35E1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AB0-4A9D-4A8E-B536-1E031CB3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404-CE2C-4B40-8B83-5BD1476B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603-E167-40C6-9C29-0401FFB3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511-02EC-4EDE-842A-0F60433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58A-6491-4033-B6D9-3ED7FC18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65A-6F00-4BE7-BA25-954C874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7526-E08D-4071-8710-71F3040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88C-90BB-49E7-9A37-324E5A0A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0A4-D84D-4BD4-8789-040459F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3F8-EF57-48D0-86E0-928B49DD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880" y="42660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HYSICS 2CL – SPRING 2009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s Laboratory: Electricity and Magnetism, Waves and Opt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46080" y="2398680"/>
            <a:ext cx="7013520" cy="34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. Leonid But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for Prof. Oleg Shpyr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mic Sans MS"/>
              </a:rPr>
              <a:t>oshpyrko@physics.ucsd.edu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er Hall Addition (MHA) 3681, ext. 4-30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ice Hours: Mondays, 3PM-4PM.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ndays, 2:00 p.m. – 2:50 p.m., York Hall 272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12960" y="5753520"/>
            <a:ext cx="72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rse materials via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webct.ucsd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cluding these lecture slides, manual, schedul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627640" y="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INEAR  FI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0" y="123336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336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Line 5"/>
          <p:cNvSpPr/>
          <p:nvPr/>
        </p:nvSpPr>
        <p:spPr>
          <a:xfrm flipV="1">
            <a:off x="971640" y="10666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2343240" y="3352680"/>
            <a:ext cx="761760" cy="762120"/>
            <a:chOff x="2343240" y="3352680"/>
            <a:chExt cx="761760" cy="762120"/>
          </a:xfrm>
        </p:grpSpPr>
        <p:sp>
          <p:nvSpPr>
            <p:cNvPr id="143" name="Line 7"/>
            <p:cNvSpPr/>
            <p:nvPr/>
          </p:nvSpPr>
          <p:spPr>
            <a:xfrm>
              <a:off x="234324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34324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9"/>
          <p:cNvSpPr/>
          <p:nvPr/>
        </p:nvSpPr>
        <p:spPr>
          <a:xfrm>
            <a:off x="241920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4629240" y="2971800"/>
            <a:ext cx="761760" cy="457200"/>
            <a:chOff x="4629240" y="2971800"/>
            <a:chExt cx="761760" cy="457200"/>
          </a:xfrm>
        </p:grpSpPr>
        <p:sp>
          <p:nvSpPr>
            <p:cNvPr id="147" name="Line 11"/>
            <p:cNvSpPr/>
            <p:nvPr/>
          </p:nvSpPr>
          <p:spPr>
            <a:xfrm>
              <a:off x="4629240" y="2971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629240" y="3429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13"/>
          <p:cNvSpPr/>
          <p:nvPr/>
        </p:nvSpPr>
        <p:spPr>
          <a:xfrm>
            <a:off x="5162400" y="29718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354320" y="3521160"/>
            <a:ext cx="154584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313600" y="2895480"/>
            <a:ext cx="15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 rot="19237200">
            <a:off x="6838920" y="7599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7"/>
          <p:cNvGrpSpPr/>
          <p:nvPr/>
        </p:nvGrpSpPr>
        <p:grpSpPr>
          <a:xfrm>
            <a:off x="3255120" y="1025640"/>
            <a:ext cx="2617200" cy="703440"/>
            <a:chOff x="3255120" y="1025640"/>
            <a:chExt cx="2617200" cy="703440"/>
          </a:xfrm>
        </p:grpSpPr>
        <p:sp>
          <p:nvSpPr>
            <p:cNvPr id="154" name="Text Box 18"/>
            <p:cNvSpPr/>
            <p:nvPr/>
          </p:nvSpPr>
          <p:spPr>
            <a:xfrm>
              <a:off x="3570480" y="1141560"/>
              <a:ext cx="230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(A+B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3255120" y="1025640"/>
              <a:ext cx="48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226480" y="988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1"/>
          <p:cNvSpPr/>
          <p:nvPr/>
        </p:nvSpPr>
        <p:spPr>
          <a:xfrm>
            <a:off x="4253040" y="1101600"/>
            <a:ext cx="2286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4600440" y="1101600"/>
            <a:ext cx="20016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1298520" y="1160640"/>
            <a:ext cx="1487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in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2855880" y="1406520"/>
            <a:ext cx="53352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77920" y="525600"/>
            <a:ext cx="70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hod of linear regression, aka the least-squares fit…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63520" y="160200"/>
            <a:ext cx="54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hat about error b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ot all data points are created equ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76320" y="1066680"/>
            <a:ext cx="8001000" cy="5700960"/>
            <a:chOff x="76320" y="1066680"/>
            <a:chExt cx="8001000" cy="5700960"/>
          </a:xfrm>
        </p:grpSpPr>
        <p:graphicFrame>
          <p:nvGraphicFramePr>
            <p:cNvPr id="164" name="Object 2"/>
            <p:cNvGraphicFramePr/>
            <p:nvPr/>
          </p:nvGraphicFramePr>
          <p:xfrm>
            <a:off x="76320" y="1142640"/>
            <a:ext cx="7772400" cy="562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142640"/>
                      <a:ext cx="7772400" cy="562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Rectangle 25"/>
            <p:cNvSpPr/>
            <p:nvPr/>
          </p:nvSpPr>
          <p:spPr>
            <a:xfrm>
              <a:off x="1219320" y="1066680"/>
              <a:ext cx="6858000" cy="464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4647960" y="3200400"/>
            <a:ext cx="245880" cy="609480"/>
            <a:chOff x="4647960" y="3200400"/>
            <a:chExt cx="245880" cy="609480"/>
          </a:xfrm>
        </p:grpSpPr>
        <p:sp>
          <p:nvSpPr>
            <p:cNvPr id="168" name="Oval 27"/>
            <p:cNvSpPr/>
            <p:nvPr/>
          </p:nvSpPr>
          <p:spPr>
            <a:xfrm>
              <a:off x="4694040" y="346068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35"/>
            <p:cNvGrpSpPr/>
            <p:nvPr/>
          </p:nvGrpSpPr>
          <p:grpSpPr>
            <a:xfrm>
              <a:off x="4647960" y="3200400"/>
              <a:ext cx="245880" cy="609480"/>
              <a:chOff x="4647960" y="3200400"/>
              <a:chExt cx="245880" cy="609480"/>
            </a:xfrm>
          </p:grpSpPr>
          <p:sp>
            <p:nvSpPr>
              <p:cNvPr id="170" name="Straight Connector 31"/>
              <p:cNvSpPr/>
              <p:nvPr/>
            </p:nvSpPr>
            <p:spPr>
              <a:xfrm flipH="1">
                <a:off x="4770360" y="3200400"/>
                <a:ext cx="1440" cy="60948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2"/>
              <p:cNvSpPr/>
              <p:nvPr/>
            </p:nvSpPr>
            <p:spPr>
              <a:xfrm flipH="1" flipV="1">
                <a:off x="4647960" y="3216240"/>
                <a:ext cx="2286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Straight Connector 34"/>
              <p:cNvSpPr/>
              <p:nvPr/>
            </p:nvSpPr>
            <p:spPr>
              <a:xfrm flipH="1">
                <a:off x="4665240" y="3808440"/>
                <a:ext cx="22860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7"/>
          <p:cNvGrpSpPr/>
          <p:nvPr/>
        </p:nvGrpSpPr>
        <p:grpSpPr>
          <a:xfrm>
            <a:off x="1995480" y="4633920"/>
            <a:ext cx="214200" cy="212760"/>
            <a:chOff x="1995480" y="4633920"/>
            <a:chExt cx="214200" cy="212760"/>
          </a:xfrm>
        </p:grpSpPr>
        <p:sp>
          <p:nvSpPr>
            <p:cNvPr id="174" name="Oval 38"/>
            <p:cNvSpPr/>
            <p:nvPr/>
          </p:nvSpPr>
          <p:spPr>
            <a:xfrm>
              <a:off x="2027160" y="4680000"/>
              <a:ext cx="152280" cy="15264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35"/>
            <p:cNvGrpSpPr/>
            <p:nvPr/>
          </p:nvGrpSpPr>
          <p:grpSpPr>
            <a:xfrm>
              <a:off x="1995480" y="4633920"/>
              <a:ext cx="214200" cy="212760"/>
              <a:chOff x="1995480" y="4633920"/>
              <a:chExt cx="214200" cy="212760"/>
            </a:xfrm>
          </p:grpSpPr>
          <p:sp>
            <p:nvSpPr>
              <p:cNvPr id="176" name="Straight Connector 40"/>
              <p:cNvSpPr/>
              <p:nvPr/>
            </p:nvSpPr>
            <p:spPr>
              <a:xfrm flipH="1">
                <a:off x="2101680" y="4633920"/>
                <a:ext cx="1440" cy="2127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Straight Connector 41"/>
              <p:cNvSpPr/>
              <p:nvPr/>
            </p:nvSpPr>
            <p:spPr>
              <a:xfrm flipH="1">
                <a:off x="1995480" y="464004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Straight Connector 42"/>
              <p:cNvSpPr/>
              <p:nvPr/>
            </p:nvSpPr>
            <p:spPr>
              <a:xfrm flipH="1">
                <a:off x="2009520" y="48466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48"/>
          <p:cNvGrpSpPr/>
          <p:nvPr/>
        </p:nvGrpSpPr>
        <p:grpSpPr>
          <a:xfrm>
            <a:off x="1371600" y="5119560"/>
            <a:ext cx="214200" cy="214560"/>
            <a:chOff x="1371600" y="5119560"/>
            <a:chExt cx="214200" cy="214560"/>
          </a:xfrm>
        </p:grpSpPr>
        <p:sp>
          <p:nvSpPr>
            <p:cNvPr id="180" name="Oval 49"/>
            <p:cNvSpPr/>
            <p:nvPr/>
          </p:nvSpPr>
          <p:spPr>
            <a:xfrm>
              <a:off x="1403640" y="5165640"/>
              <a:ext cx="15228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5"/>
            <p:cNvGrpSpPr/>
            <p:nvPr/>
          </p:nvGrpSpPr>
          <p:grpSpPr>
            <a:xfrm>
              <a:off x="1371600" y="5119560"/>
              <a:ext cx="214200" cy="214560"/>
              <a:chOff x="1371600" y="5119560"/>
              <a:chExt cx="214200" cy="214560"/>
            </a:xfrm>
          </p:grpSpPr>
          <p:sp>
            <p:nvSpPr>
              <p:cNvPr id="182" name="Straight Connector 51"/>
              <p:cNvSpPr/>
              <p:nvPr/>
            </p:nvSpPr>
            <p:spPr>
              <a:xfrm flipH="1">
                <a:off x="1477800" y="5119560"/>
                <a:ext cx="1440" cy="214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52"/>
              <p:cNvSpPr/>
              <p:nvPr/>
            </p:nvSpPr>
            <p:spPr>
              <a:xfrm flipH="1">
                <a:off x="1371600" y="51256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53"/>
              <p:cNvSpPr/>
              <p:nvPr/>
            </p:nvSpPr>
            <p:spPr>
              <a:xfrm flipH="1">
                <a:off x="1385640" y="533412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54"/>
          <p:cNvGrpSpPr/>
          <p:nvPr/>
        </p:nvGrpSpPr>
        <p:grpSpPr>
          <a:xfrm>
            <a:off x="2514600" y="4510080"/>
            <a:ext cx="214200" cy="214200"/>
            <a:chOff x="2514600" y="4510080"/>
            <a:chExt cx="214200" cy="214200"/>
          </a:xfrm>
        </p:grpSpPr>
        <p:sp>
          <p:nvSpPr>
            <p:cNvPr id="186" name="Oval 55"/>
            <p:cNvSpPr/>
            <p:nvPr/>
          </p:nvSpPr>
          <p:spPr>
            <a:xfrm>
              <a:off x="2546640" y="4556160"/>
              <a:ext cx="15228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35"/>
            <p:cNvGrpSpPr/>
            <p:nvPr/>
          </p:nvGrpSpPr>
          <p:grpSpPr>
            <a:xfrm>
              <a:off x="2514600" y="4510080"/>
              <a:ext cx="214200" cy="214200"/>
              <a:chOff x="2514600" y="4510080"/>
              <a:chExt cx="214200" cy="214200"/>
            </a:xfrm>
          </p:grpSpPr>
          <p:sp>
            <p:nvSpPr>
              <p:cNvPr id="188" name="Straight Connector 57"/>
              <p:cNvSpPr/>
              <p:nvPr/>
            </p:nvSpPr>
            <p:spPr>
              <a:xfrm flipH="1">
                <a:off x="2620800" y="4510080"/>
                <a:ext cx="1440" cy="21420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Straight Connector 58"/>
              <p:cNvSpPr/>
              <p:nvPr/>
            </p:nvSpPr>
            <p:spPr>
              <a:xfrm flipH="1">
                <a:off x="2514600" y="451620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Straight Connector 59"/>
              <p:cNvSpPr/>
              <p:nvPr/>
            </p:nvSpPr>
            <p:spPr>
              <a:xfrm flipH="1">
                <a:off x="2528640" y="47242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66"/>
          <p:cNvGrpSpPr/>
          <p:nvPr/>
        </p:nvGrpSpPr>
        <p:grpSpPr>
          <a:xfrm>
            <a:off x="6553080" y="2133720"/>
            <a:ext cx="304920" cy="1447560"/>
            <a:chOff x="6553080" y="2133720"/>
            <a:chExt cx="304920" cy="1447560"/>
          </a:xfrm>
        </p:grpSpPr>
        <p:sp>
          <p:nvSpPr>
            <p:cNvPr id="192" name="Oval 61"/>
            <p:cNvSpPr/>
            <p:nvPr/>
          </p:nvSpPr>
          <p:spPr>
            <a:xfrm>
              <a:off x="6629040" y="28321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5"/>
            <p:cNvGrpSpPr/>
            <p:nvPr/>
          </p:nvGrpSpPr>
          <p:grpSpPr>
            <a:xfrm>
              <a:off x="6553080" y="2133720"/>
              <a:ext cx="304920" cy="1447560"/>
              <a:chOff x="6553080" y="2133720"/>
              <a:chExt cx="304920" cy="1447560"/>
            </a:xfrm>
          </p:grpSpPr>
          <p:sp>
            <p:nvSpPr>
              <p:cNvPr id="194" name="Straight Connector 63"/>
              <p:cNvSpPr/>
              <p:nvPr/>
            </p:nvSpPr>
            <p:spPr>
              <a:xfrm flipH="1">
                <a:off x="6703920" y="21337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64"/>
              <p:cNvSpPr/>
              <p:nvPr/>
            </p:nvSpPr>
            <p:spPr>
              <a:xfrm flipH="1" flipV="1">
                <a:off x="6553080" y="217332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Straight Connector 65"/>
              <p:cNvSpPr/>
              <p:nvPr/>
            </p:nvSpPr>
            <p:spPr>
              <a:xfrm flipH="1" flipV="1">
                <a:off x="6573600" y="357840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67"/>
          <p:cNvGrpSpPr/>
          <p:nvPr/>
        </p:nvGrpSpPr>
        <p:grpSpPr>
          <a:xfrm>
            <a:off x="3486240" y="3827520"/>
            <a:ext cx="212760" cy="214200"/>
            <a:chOff x="3486240" y="3827520"/>
            <a:chExt cx="212760" cy="214200"/>
          </a:xfrm>
        </p:grpSpPr>
        <p:sp>
          <p:nvSpPr>
            <p:cNvPr id="198" name="Oval 68"/>
            <p:cNvSpPr/>
            <p:nvPr/>
          </p:nvSpPr>
          <p:spPr>
            <a:xfrm>
              <a:off x="3518280" y="3873600"/>
              <a:ext cx="15264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35"/>
            <p:cNvGrpSpPr/>
            <p:nvPr/>
          </p:nvGrpSpPr>
          <p:grpSpPr>
            <a:xfrm>
              <a:off x="3486240" y="3827520"/>
              <a:ext cx="212760" cy="214200"/>
              <a:chOff x="3486240" y="3827520"/>
              <a:chExt cx="212760" cy="214200"/>
            </a:xfrm>
          </p:grpSpPr>
          <p:sp>
            <p:nvSpPr>
              <p:cNvPr id="200" name="Straight Connector 70"/>
              <p:cNvSpPr/>
              <p:nvPr/>
            </p:nvSpPr>
            <p:spPr>
              <a:xfrm flipH="1">
                <a:off x="3591000" y="3827520"/>
                <a:ext cx="1440" cy="21420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Straight Connector 71"/>
              <p:cNvSpPr/>
              <p:nvPr/>
            </p:nvSpPr>
            <p:spPr>
              <a:xfrm flipH="1">
                <a:off x="3486240" y="3833640"/>
                <a:ext cx="19872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Straight Connector 72"/>
              <p:cNvSpPr/>
              <p:nvPr/>
            </p:nvSpPr>
            <p:spPr>
              <a:xfrm flipH="1">
                <a:off x="3500280" y="4041720"/>
                <a:ext cx="19872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Line 5"/>
          <p:cNvSpPr/>
          <p:nvPr/>
        </p:nvSpPr>
        <p:spPr>
          <a:xfrm flipV="1">
            <a:off x="1089000" y="1417320"/>
            <a:ext cx="6988320" cy="3903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1143000" y="2437920"/>
            <a:ext cx="7162920" cy="22100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6"/>
          <p:cNvGrpSpPr/>
          <p:nvPr/>
        </p:nvGrpSpPr>
        <p:grpSpPr>
          <a:xfrm>
            <a:off x="5638680" y="2743200"/>
            <a:ext cx="246240" cy="609480"/>
            <a:chOff x="5638680" y="2743200"/>
            <a:chExt cx="246240" cy="609480"/>
          </a:xfrm>
        </p:grpSpPr>
        <p:sp>
          <p:nvSpPr>
            <p:cNvPr id="206" name="Oval 77"/>
            <p:cNvSpPr/>
            <p:nvPr/>
          </p:nvSpPr>
          <p:spPr>
            <a:xfrm>
              <a:off x="5684760" y="3003480"/>
              <a:ext cx="15264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35"/>
            <p:cNvGrpSpPr/>
            <p:nvPr/>
          </p:nvGrpSpPr>
          <p:grpSpPr>
            <a:xfrm>
              <a:off x="5638680" y="2743200"/>
              <a:ext cx="246240" cy="609480"/>
              <a:chOff x="5638680" y="2743200"/>
              <a:chExt cx="246240" cy="609480"/>
            </a:xfrm>
          </p:grpSpPr>
          <p:sp>
            <p:nvSpPr>
              <p:cNvPr id="208" name="Straight Connector 79"/>
              <p:cNvSpPr/>
              <p:nvPr/>
            </p:nvSpPr>
            <p:spPr>
              <a:xfrm flipH="1">
                <a:off x="5761080" y="2743200"/>
                <a:ext cx="1440" cy="60948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Straight Connector 80"/>
              <p:cNvSpPr/>
              <p:nvPr/>
            </p:nvSpPr>
            <p:spPr>
              <a:xfrm flipH="1" flipV="1">
                <a:off x="5638680" y="2759040"/>
                <a:ext cx="22896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Straight Connector 81"/>
              <p:cNvSpPr/>
              <p:nvPr/>
            </p:nvSpPr>
            <p:spPr>
              <a:xfrm flipH="1">
                <a:off x="5655960" y="3351240"/>
                <a:ext cx="2289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82"/>
          <p:cNvGrpSpPr/>
          <p:nvPr/>
        </p:nvGrpSpPr>
        <p:grpSpPr>
          <a:xfrm>
            <a:off x="7772400" y="1447920"/>
            <a:ext cx="304920" cy="1447560"/>
            <a:chOff x="7772400" y="1447920"/>
            <a:chExt cx="304920" cy="1447560"/>
          </a:xfrm>
        </p:grpSpPr>
        <p:sp>
          <p:nvSpPr>
            <p:cNvPr id="212" name="Oval 83"/>
            <p:cNvSpPr/>
            <p:nvPr/>
          </p:nvSpPr>
          <p:spPr>
            <a:xfrm>
              <a:off x="7847280" y="21463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5"/>
            <p:cNvGrpSpPr/>
            <p:nvPr/>
          </p:nvGrpSpPr>
          <p:grpSpPr>
            <a:xfrm>
              <a:off x="7772400" y="1447920"/>
              <a:ext cx="304920" cy="1447560"/>
              <a:chOff x="7772400" y="1447920"/>
              <a:chExt cx="304920" cy="1447560"/>
            </a:xfrm>
          </p:grpSpPr>
          <p:sp>
            <p:nvSpPr>
              <p:cNvPr id="214" name="Straight Connector 85"/>
              <p:cNvSpPr/>
              <p:nvPr/>
            </p:nvSpPr>
            <p:spPr>
              <a:xfrm flipH="1">
                <a:off x="7923240" y="14479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86"/>
              <p:cNvSpPr/>
              <p:nvPr/>
            </p:nvSpPr>
            <p:spPr>
              <a:xfrm flipH="1" flipV="1">
                <a:off x="7772400" y="148752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87"/>
              <p:cNvSpPr/>
              <p:nvPr/>
            </p:nvSpPr>
            <p:spPr>
              <a:xfrm flipH="1" flipV="1">
                <a:off x="7792920" y="289260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88"/>
          <p:cNvGrpSpPr/>
          <p:nvPr/>
        </p:nvGrpSpPr>
        <p:grpSpPr>
          <a:xfrm>
            <a:off x="7162560" y="1905120"/>
            <a:ext cx="304560" cy="1447560"/>
            <a:chOff x="7162560" y="1905120"/>
            <a:chExt cx="304560" cy="1447560"/>
          </a:xfrm>
        </p:grpSpPr>
        <p:sp>
          <p:nvSpPr>
            <p:cNvPr id="218" name="Oval 89"/>
            <p:cNvSpPr/>
            <p:nvPr/>
          </p:nvSpPr>
          <p:spPr>
            <a:xfrm>
              <a:off x="7237800" y="26035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5"/>
            <p:cNvGrpSpPr/>
            <p:nvPr/>
          </p:nvGrpSpPr>
          <p:grpSpPr>
            <a:xfrm>
              <a:off x="7162560" y="1905120"/>
              <a:ext cx="304560" cy="1447560"/>
              <a:chOff x="7162560" y="1905120"/>
              <a:chExt cx="304560" cy="1447560"/>
            </a:xfrm>
          </p:grpSpPr>
          <p:sp>
            <p:nvSpPr>
              <p:cNvPr id="220" name="Straight Connector 91"/>
              <p:cNvSpPr/>
              <p:nvPr/>
            </p:nvSpPr>
            <p:spPr>
              <a:xfrm flipH="1">
                <a:off x="7313760" y="19051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Straight Connector 92"/>
              <p:cNvSpPr/>
              <p:nvPr/>
            </p:nvSpPr>
            <p:spPr>
              <a:xfrm flipH="1" flipV="1">
                <a:off x="7162560" y="1944720"/>
                <a:ext cx="28404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Straight Connector 93"/>
              <p:cNvSpPr/>
              <p:nvPr/>
            </p:nvSpPr>
            <p:spPr>
              <a:xfrm flipH="1" flipV="1">
                <a:off x="7183080" y="3349800"/>
                <a:ext cx="28404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136520" y="13032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-adjusted ave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048120" y="1066680"/>
                <a:ext cx="4305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1219320" y="2844720"/>
                <a:ext cx="5803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TextBox 4"/>
          <p:cNvSpPr/>
          <p:nvPr/>
        </p:nvSpPr>
        <p:spPr>
          <a:xfrm>
            <a:off x="333720" y="106668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i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the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ue of x is giv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461880" y="2057400"/>
            <a:ext cx="763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we want to weigh data points with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factors”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8480" y="403848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lready KNOW this – e. g. your gr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6"/>
              <p:cNvSpPr txBox="1"/>
              <p:nvPr/>
            </p:nvSpPr>
            <p:spPr>
              <a:xfrm>
                <a:off x="228600" y="4570560"/>
                <a:ext cx="83581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orm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S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*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TextBox 8"/>
          <p:cNvSpPr/>
          <p:nvPr/>
        </p:nvSpPr>
        <p:spPr>
          <a:xfrm>
            <a:off x="375120" y="5791320"/>
            <a:ext cx="78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s: 20 for Final Exam, 20 for Formal Repor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for each of 5 labs – lowest score gets drop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57120" y="6094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re precise data points should carry more we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weigh the points with the ~ inverse of their error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3"/>
          <p:cNvGrpSpPr/>
          <p:nvPr/>
        </p:nvGrpSpPr>
        <p:grpSpPr>
          <a:xfrm>
            <a:off x="228600" y="1752480"/>
            <a:ext cx="6400800" cy="4876920"/>
            <a:chOff x="228600" y="1752480"/>
            <a:chExt cx="6400800" cy="4876920"/>
          </a:xfrm>
        </p:grpSpPr>
        <p:grpSp>
          <p:nvGrpSpPr>
            <p:cNvPr id="233" name="Group 26"/>
            <p:cNvGrpSpPr/>
            <p:nvPr/>
          </p:nvGrpSpPr>
          <p:grpSpPr>
            <a:xfrm>
              <a:off x="228600" y="1752480"/>
              <a:ext cx="6400800" cy="4876920"/>
              <a:chOff x="228600" y="1752480"/>
              <a:chExt cx="6400800" cy="4876920"/>
            </a:xfrm>
          </p:grpSpPr>
          <p:graphicFrame>
            <p:nvGraphicFramePr>
              <p:cNvPr id="234" name="Object 2"/>
              <p:cNvGraphicFramePr/>
              <p:nvPr/>
            </p:nvGraphicFramePr>
            <p:xfrm>
              <a:off x="228600" y="1817640"/>
              <a:ext cx="6217920" cy="4811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" y="1817640"/>
                        <a:ext cx="6217920" cy="481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" name="Rectangle 25"/>
              <p:cNvSpPr/>
              <p:nvPr/>
            </p:nvSpPr>
            <p:spPr>
              <a:xfrm>
                <a:off x="1143000" y="1752480"/>
                <a:ext cx="5486400" cy="39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6"/>
            <p:cNvGrpSpPr/>
            <p:nvPr/>
          </p:nvGrpSpPr>
          <p:grpSpPr>
            <a:xfrm>
              <a:off x="3885840" y="3577680"/>
              <a:ext cx="197280" cy="521280"/>
              <a:chOff x="3885840" y="3577680"/>
              <a:chExt cx="197280" cy="521280"/>
            </a:xfrm>
          </p:grpSpPr>
          <p:sp>
            <p:nvSpPr>
              <p:cNvPr id="238" name="Oval 27"/>
              <p:cNvSpPr/>
              <p:nvPr/>
            </p:nvSpPr>
            <p:spPr>
              <a:xfrm>
                <a:off x="3922560" y="3800160"/>
                <a:ext cx="1224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35"/>
              <p:cNvGrpSpPr/>
              <p:nvPr/>
            </p:nvGrpSpPr>
            <p:grpSpPr>
              <a:xfrm>
                <a:off x="3885840" y="3577680"/>
                <a:ext cx="197280" cy="521280"/>
                <a:chOff x="3885840" y="3577680"/>
                <a:chExt cx="197280" cy="521280"/>
              </a:xfrm>
            </p:grpSpPr>
            <p:sp>
              <p:nvSpPr>
                <p:cNvPr id="240" name="Straight Connector 31"/>
                <p:cNvSpPr/>
                <p:nvPr/>
              </p:nvSpPr>
              <p:spPr>
                <a:xfrm flipH="1">
                  <a:off x="3983400" y="3577680"/>
                  <a:ext cx="1440" cy="5212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Straight Connector 32"/>
                <p:cNvSpPr/>
                <p:nvPr/>
              </p:nvSpPr>
              <p:spPr>
                <a:xfrm flipH="1">
                  <a:off x="3885840" y="3591720"/>
                  <a:ext cx="1832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Straight Connector 34"/>
                <p:cNvSpPr/>
                <p:nvPr/>
              </p:nvSpPr>
              <p:spPr>
                <a:xfrm flipH="1" flipV="1">
                  <a:off x="3899880" y="4097520"/>
                  <a:ext cx="1832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Group 47"/>
            <p:cNvGrpSpPr/>
            <p:nvPr/>
          </p:nvGrpSpPr>
          <p:grpSpPr>
            <a:xfrm>
              <a:off x="1764360" y="4803840"/>
              <a:ext cx="171000" cy="182880"/>
              <a:chOff x="1764360" y="4803840"/>
              <a:chExt cx="171000" cy="182880"/>
            </a:xfrm>
          </p:grpSpPr>
          <p:sp>
            <p:nvSpPr>
              <p:cNvPr id="244" name="Oval 38"/>
              <p:cNvSpPr/>
              <p:nvPr/>
            </p:nvSpPr>
            <p:spPr>
              <a:xfrm>
                <a:off x="1788840" y="484344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35"/>
              <p:cNvGrpSpPr/>
              <p:nvPr/>
            </p:nvGrpSpPr>
            <p:grpSpPr>
              <a:xfrm>
                <a:off x="1764360" y="4803840"/>
                <a:ext cx="171000" cy="182880"/>
                <a:chOff x="1764360" y="4803840"/>
                <a:chExt cx="171000" cy="182880"/>
              </a:xfrm>
            </p:grpSpPr>
            <p:sp>
              <p:nvSpPr>
                <p:cNvPr id="246" name="Straight Connector 40"/>
                <p:cNvSpPr/>
                <p:nvPr/>
              </p:nvSpPr>
              <p:spPr>
                <a:xfrm flipH="1">
                  <a:off x="1848240" y="48038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41"/>
                <p:cNvSpPr/>
                <p:nvPr/>
              </p:nvSpPr>
              <p:spPr>
                <a:xfrm flipH="1">
                  <a:off x="1764360" y="48085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42"/>
                <p:cNvSpPr/>
                <p:nvPr/>
              </p:nvSpPr>
              <p:spPr>
                <a:xfrm flipH="1">
                  <a:off x="1776960" y="49867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48"/>
            <p:cNvGrpSpPr/>
            <p:nvPr/>
          </p:nvGrpSpPr>
          <p:grpSpPr>
            <a:xfrm>
              <a:off x="1386360" y="5011920"/>
              <a:ext cx="171000" cy="182880"/>
              <a:chOff x="1386360" y="5011920"/>
              <a:chExt cx="171000" cy="182880"/>
            </a:xfrm>
          </p:grpSpPr>
          <p:sp>
            <p:nvSpPr>
              <p:cNvPr id="250" name="Oval 49"/>
              <p:cNvSpPr/>
              <p:nvPr/>
            </p:nvSpPr>
            <p:spPr>
              <a:xfrm>
                <a:off x="1413000" y="5051160"/>
                <a:ext cx="1206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35"/>
              <p:cNvGrpSpPr/>
              <p:nvPr/>
            </p:nvGrpSpPr>
            <p:grpSpPr>
              <a:xfrm>
                <a:off x="1386360" y="5011920"/>
                <a:ext cx="171000" cy="182880"/>
                <a:chOff x="1386360" y="5011920"/>
                <a:chExt cx="171000" cy="182880"/>
              </a:xfrm>
            </p:grpSpPr>
            <p:sp>
              <p:nvSpPr>
                <p:cNvPr id="252" name="Straight Connector 51"/>
                <p:cNvSpPr/>
                <p:nvPr/>
              </p:nvSpPr>
              <p:spPr>
                <a:xfrm flipH="1">
                  <a:off x="1468800" y="501192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Straight Connector 52"/>
                <p:cNvSpPr/>
                <p:nvPr/>
              </p:nvSpPr>
              <p:spPr>
                <a:xfrm flipH="1">
                  <a:off x="1386360" y="5016600"/>
                  <a:ext cx="15948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Straight Connector 53"/>
                <p:cNvSpPr/>
                <p:nvPr/>
              </p:nvSpPr>
              <p:spPr>
                <a:xfrm flipH="1">
                  <a:off x="1397880" y="5194800"/>
                  <a:ext cx="15948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54"/>
            <p:cNvGrpSpPr/>
            <p:nvPr/>
          </p:nvGrpSpPr>
          <p:grpSpPr>
            <a:xfrm>
              <a:off x="2178720" y="4555440"/>
              <a:ext cx="171000" cy="182880"/>
              <a:chOff x="2178720" y="4555440"/>
              <a:chExt cx="171000" cy="182880"/>
            </a:xfrm>
          </p:grpSpPr>
          <p:sp>
            <p:nvSpPr>
              <p:cNvPr id="256" name="Oval 55"/>
              <p:cNvSpPr/>
              <p:nvPr/>
            </p:nvSpPr>
            <p:spPr>
              <a:xfrm>
                <a:off x="2205000" y="459540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35"/>
              <p:cNvGrpSpPr/>
              <p:nvPr/>
            </p:nvGrpSpPr>
            <p:grpSpPr>
              <a:xfrm>
                <a:off x="2178720" y="4555440"/>
                <a:ext cx="171000" cy="182880"/>
                <a:chOff x="2178720" y="4555440"/>
                <a:chExt cx="171000" cy="182880"/>
              </a:xfrm>
            </p:grpSpPr>
            <p:sp>
              <p:nvSpPr>
                <p:cNvPr id="258" name="Straight Connector 57"/>
                <p:cNvSpPr/>
                <p:nvPr/>
              </p:nvSpPr>
              <p:spPr>
                <a:xfrm flipH="1">
                  <a:off x="2265480" y="45554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Straight Connector 58"/>
                <p:cNvSpPr/>
                <p:nvPr/>
              </p:nvSpPr>
              <p:spPr>
                <a:xfrm flipH="1">
                  <a:off x="2178720" y="4560120"/>
                  <a:ext cx="15876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Straight Connector 59"/>
                <p:cNvSpPr/>
                <p:nvPr/>
              </p:nvSpPr>
              <p:spPr>
                <a:xfrm flipH="1">
                  <a:off x="2190960" y="4738320"/>
                  <a:ext cx="15876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66"/>
            <p:cNvGrpSpPr/>
            <p:nvPr/>
          </p:nvGrpSpPr>
          <p:grpSpPr>
            <a:xfrm>
              <a:off x="5410080" y="2665080"/>
              <a:ext cx="243720" cy="1238400"/>
              <a:chOff x="5410080" y="2665080"/>
              <a:chExt cx="243720" cy="1238400"/>
            </a:xfrm>
          </p:grpSpPr>
          <p:sp>
            <p:nvSpPr>
              <p:cNvPr id="262" name="Oval 61"/>
              <p:cNvSpPr/>
              <p:nvPr/>
            </p:nvSpPr>
            <p:spPr>
              <a:xfrm>
                <a:off x="5472360" y="3261960"/>
                <a:ext cx="12204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35"/>
              <p:cNvGrpSpPr/>
              <p:nvPr/>
            </p:nvGrpSpPr>
            <p:grpSpPr>
              <a:xfrm>
                <a:off x="5410080" y="2665080"/>
                <a:ext cx="243720" cy="1238400"/>
                <a:chOff x="5410080" y="2665080"/>
                <a:chExt cx="243720" cy="1238400"/>
              </a:xfrm>
            </p:grpSpPr>
            <p:sp>
              <p:nvSpPr>
                <p:cNvPr id="264" name="Straight Connector 63"/>
                <p:cNvSpPr/>
                <p:nvPr/>
              </p:nvSpPr>
              <p:spPr>
                <a:xfrm flipH="1">
                  <a:off x="5530680" y="2665080"/>
                  <a:ext cx="1440" cy="123840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Straight Connector 64"/>
                <p:cNvSpPr/>
                <p:nvPr/>
              </p:nvSpPr>
              <p:spPr>
                <a:xfrm flipH="1" flipV="1">
                  <a:off x="5410080" y="269820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Straight Connector 65"/>
                <p:cNvSpPr/>
                <p:nvPr/>
              </p:nvSpPr>
              <p:spPr>
                <a:xfrm flipH="1" flipV="1">
                  <a:off x="5427360" y="390060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67"/>
            <p:cNvGrpSpPr/>
            <p:nvPr/>
          </p:nvGrpSpPr>
          <p:grpSpPr>
            <a:xfrm>
              <a:off x="2955960" y="4114080"/>
              <a:ext cx="171000" cy="182880"/>
              <a:chOff x="2955960" y="4114080"/>
              <a:chExt cx="171000" cy="182880"/>
            </a:xfrm>
          </p:grpSpPr>
          <p:sp>
            <p:nvSpPr>
              <p:cNvPr id="268" name="Oval 68"/>
              <p:cNvSpPr/>
              <p:nvPr/>
            </p:nvSpPr>
            <p:spPr>
              <a:xfrm>
                <a:off x="2981520" y="415440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Group 35"/>
              <p:cNvGrpSpPr/>
              <p:nvPr/>
            </p:nvGrpSpPr>
            <p:grpSpPr>
              <a:xfrm>
                <a:off x="2955960" y="4114080"/>
                <a:ext cx="171000" cy="182880"/>
                <a:chOff x="2955960" y="4114080"/>
                <a:chExt cx="171000" cy="182880"/>
              </a:xfrm>
            </p:grpSpPr>
            <p:sp>
              <p:nvSpPr>
                <p:cNvPr id="270" name="Straight Connector 70"/>
                <p:cNvSpPr/>
                <p:nvPr/>
              </p:nvSpPr>
              <p:spPr>
                <a:xfrm flipH="1">
                  <a:off x="3039840" y="411408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Straight Connector 71"/>
                <p:cNvSpPr/>
                <p:nvPr/>
              </p:nvSpPr>
              <p:spPr>
                <a:xfrm flipH="1">
                  <a:off x="2955960" y="411876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72"/>
                <p:cNvSpPr/>
                <p:nvPr/>
              </p:nvSpPr>
              <p:spPr>
                <a:xfrm flipH="1">
                  <a:off x="2968560" y="429696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Line 5"/>
            <p:cNvSpPr/>
            <p:nvPr/>
          </p:nvSpPr>
          <p:spPr>
            <a:xfrm flipV="1">
              <a:off x="1038960" y="2053080"/>
              <a:ext cx="5590440" cy="3339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288800" y="13032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-adjusted ave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41280" y="868320"/>
            <a:ext cx="8622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average values with different uncertain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 measured resistance 100±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B measured resistance 105±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7200" y="4495680"/>
                <a:ext cx="2089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143000" y="5562720"/>
                <a:ext cx="1152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2971800" y="5562720"/>
                <a:ext cx="1179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609480" y="2616120"/>
                <a:ext cx="5803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TextBox 13"/>
          <p:cNvSpPr/>
          <p:nvPr/>
        </p:nvSpPr>
        <p:spPr>
          <a:xfrm>
            <a:off x="598320" y="39625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in this case calculate for i=1,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2806560" y="47242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“statistical” we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4648320" y="5410080"/>
            <a:ext cx="41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OTTOM LINE: More precise measurements get weighed more heavil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152280" y="1828800"/>
            <a:ext cx="6400800" cy="4876920"/>
            <a:chOff x="152280" y="1828800"/>
            <a:chExt cx="6400800" cy="4876920"/>
          </a:xfrm>
        </p:grpSpPr>
        <p:grpSp>
          <p:nvGrpSpPr>
            <p:cNvPr id="284" name="Group 26"/>
            <p:cNvGrpSpPr/>
            <p:nvPr/>
          </p:nvGrpSpPr>
          <p:grpSpPr>
            <a:xfrm>
              <a:off x="152280" y="1828800"/>
              <a:ext cx="6400800" cy="4876920"/>
              <a:chOff x="152280" y="1828800"/>
              <a:chExt cx="6400800" cy="4876920"/>
            </a:xfrm>
          </p:grpSpPr>
          <p:graphicFrame>
            <p:nvGraphicFramePr>
              <p:cNvPr id="285" name="Object 4"/>
              <p:cNvGraphicFramePr/>
              <p:nvPr/>
            </p:nvGraphicFramePr>
            <p:xfrm>
              <a:off x="152280" y="1893960"/>
              <a:ext cx="6217920" cy="4811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6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2280" y="1893960"/>
                        <a:ext cx="6217920" cy="481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7" name="Rectangle 46"/>
              <p:cNvSpPr/>
              <p:nvPr/>
            </p:nvSpPr>
            <p:spPr>
              <a:xfrm>
                <a:off x="1066680" y="1828800"/>
                <a:ext cx="5486400" cy="39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6"/>
            <p:cNvGrpSpPr/>
            <p:nvPr/>
          </p:nvGrpSpPr>
          <p:grpSpPr>
            <a:xfrm>
              <a:off x="3809520" y="3654000"/>
              <a:ext cx="197280" cy="521280"/>
              <a:chOff x="3809520" y="3654000"/>
              <a:chExt cx="197280" cy="521280"/>
            </a:xfrm>
          </p:grpSpPr>
          <p:sp>
            <p:nvSpPr>
              <p:cNvPr id="289" name="Oval 40"/>
              <p:cNvSpPr/>
              <p:nvPr/>
            </p:nvSpPr>
            <p:spPr>
              <a:xfrm>
                <a:off x="3846240" y="3876480"/>
                <a:ext cx="1224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35"/>
              <p:cNvGrpSpPr/>
              <p:nvPr/>
            </p:nvGrpSpPr>
            <p:grpSpPr>
              <a:xfrm>
                <a:off x="3809520" y="3654000"/>
                <a:ext cx="197280" cy="521280"/>
                <a:chOff x="3809520" y="3654000"/>
                <a:chExt cx="197280" cy="521280"/>
              </a:xfrm>
            </p:grpSpPr>
            <p:sp>
              <p:nvSpPr>
                <p:cNvPr id="291" name="Straight Connector 31"/>
                <p:cNvSpPr/>
                <p:nvPr/>
              </p:nvSpPr>
              <p:spPr>
                <a:xfrm flipH="1">
                  <a:off x="3907080" y="3654000"/>
                  <a:ext cx="1440" cy="5212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43"/>
                <p:cNvSpPr/>
                <p:nvPr/>
              </p:nvSpPr>
              <p:spPr>
                <a:xfrm flipH="1">
                  <a:off x="3809520" y="3668040"/>
                  <a:ext cx="1832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44"/>
                <p:cNvSpPr/>
                <p:nvPr/>
              </p:nvSpPr>
              <p:spPr>
                <a:xfrm flipH="1" flipV="1">
                  <a:off x="3823560" y="4173840"/>
                  <a:ext cx="1832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47"/>
            <p:cNvGrpSpPr/>
            <p:nvPr/>
          </p:nvGrpSpPr>
          <p:grpSpPr>
            <a:xfrm>
              <a:off x="1687680" y="4880160"/>
              <a:ext cx="171000" cy="182880"/>
              <a:chOff x="1687680" y="4880160"/>
              <a:chExt cx="171000" cy="182880"/>
            </a:xfrm>
          </p:grpSpPr>
          <p:sp>
            <p:nvSpPr>
              <p:cNvPr id="295" name="Oval 35"/>
              <p:cNvSpPr/>
              <p:nvPr/>
            </p:nvSpPr>
            <p:spPr>
              <a:xfrm>
                <a:off x="1712520" y="491976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35"/>
              <p:cNvGrpSpPr/>
              <p:nvPr/>
            </p:nvGrpSpPr>
            <p:grpSpPr>
              <a:xfrm>
                <a:off x="1687680" y="4880160"/>
                <a:ext cx="171000" cy="182880"/>
                <a:chOff x="1687680" y="4880160"/>
                <a:chExt cx="171000" cy="182880"/>
              </a:xfrm>
            </p:grpSpPr>
            <p:sp>
              <p:nvSpPr>
                <p:cNvPr id="297" name="Straight Connector 37"/>
                <p:cNvSpPr/>
                <p:nvPr/>
              </p:nvSpPr>
              <p:spPr>
                <a:xfrm flipH="1">
                  <a:off x="1771560" y="488016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Straight Connector 38"/>
                <p:cNvSpPr/>
                <p:nvPr/>
              </p:nvSpPr>
              <p:spPr>
                <a:xfrm flipH="1">
                  <a:off x="1687680" y="488484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Straight Connector 39"/>
                <p:cNvSpPr/>
                <p:nvPr/>
              </p:nvSpPr>
              <p:spPr>
                <a:xfrm flipH="1">
                  <a:off x="1700280" y="506304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48"/>
            <p:cNvGrpSpPr/>
            <p:nvPr/>
          </p:nvGrpSpPr>
          <p:grpSpPr>
            <a:xfrm>
              <a:off x="1310040" y="5088240"/>
              <a:ext cx="171000" cy="182880"/>
              <a:chOff x="1310040" y="5088240"/>
              <a:chExt cx="171000" cy="182880"/>
            </a:xfrm>
          </p:grpSpPr>
          <p:sp>
            <p:nvSpPr>
              <p:cNvPr id="301" name="Oval 30"/>
              <p:cNvSpPr/>
              <p:nvPr/>
            </p:nvSpPr>
            <p:spPr>
              <a:xfrm>
                <a:off x="1334880" y="512748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35"/>
              <p:cNvGrpSpPr/>
              <p:nvPr/>
            </p:nvGrpSpPr>
            <p:grpSpPr>
              <a:xfrm>
                <a:off x="1310040" y="5088240"/>
                <a:ext cx="171000" cy="182880"/>
                <a:chOff x="1310040" y="5088240"/>
                <a:chExt cx="171000" cy="182880"/>
              </a:xfrm>
            </p:grpSpPr>
            <p:sp>
              <p:nvSpPr>
                <p:cNvPr id="303" name="Straight Connector 32"/>
                <p:cNvSpPr/>
                <p:nvPr/>
              </p:nvSpPr>
              <p:spPr>
                <a:xfrm flipH="1">
                  <a:off x="1393920" y="50882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33"/>
                <p:cNvSpPr/>
                <p:nvPr/>
              </p:nvSpPr>
              <p:spPr>
                <a:xfrm flipH="1">
                  <a:off x="1310040" y="50929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Straight Connector 34"/>
                <p:cNvSpPr/>
                <p:nvPr/>
              </p:nvSpPr>
              <p:spPr>
                <a:xfrm flipH="1">
                  <a:off x="1322640" y="52711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54"/>
            <p:cNvGrpSpPr/>
            <p:nvPr/>
          </p:nvGrpSpPr>
          <p:grpSpPr>
            <a:xfrm>
              <a:off x="2102400" y="4631760"/>
              <a:ext cx="171000" cy="182880"/>
              <a:chOff x="2102400" y="4631760"/>
              <a:chExt cx="171000" cy="182880"/>
            </a:xfrm>
          </p:grpSpPr>
          <p:sp>
            <p:nvSpPr>
              <p:cNvPr id="307" name="Oval 25"/>
              <p:cNvSpPr/>
              <p:nvPr/>
            </p:nvSpPr>
            <p:spPr>
              <a:xfrm>
                <a:off x="2128320" y="467172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35"/>
              <p:cNvGrpSpPr/>
              <p:nvPr/>
            </p:nvGrpSpPr>
            <p:grpSpPr>
              <a:xfrm>
                <a:off x="2102400" y="4631760"/>
                <a:ext cx="171000" cy="182880"/>
                <a:chOff x="2102400" y="4631760"/>
                <a:chExt cx="171000" cy="182880"/>
              </a:xfrm>
            </p:grpSpPr>
            <p:sp>
              <p:nvSpPr>
                <p:cNvPr id="309" name="Straight Connector 27"/>
                <p:cNvSpPr/>
                <p:nvPr/>
              </p:nvSpPr>
              <p:spPr>
                <a:xfrm flipH="1">
                  <a:off x="2187000" y="463176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Straight Connector 28"/>
                <p:cNvSpPr/>
                <p:nvPr/>
              </p:nvSpPr>
              <p:spPr>
                <a:xfrm flipH="1">
                  <a:off x="2102400" y="4636440"/>
                  <a:ext cx="1598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Straight Connector 29"/>
                <p:cNvSpPr/>
                <p:nvPr/>
              </p:nvSpPr>
              <p:spPr>
                <a:xfrm flipH="1">
                  <a:off x="2113560" y="4814640"/>
                  <a:ext cx="1598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66"/>
            <p:cNvGrpSpPr/>
            <p:nvPr/>
          </p:nvGrpSpPr>
          <p:grpSpPr>
            <a:xfrm>
              <a:off x="5334480" y="2741400"/>
              <a:ext cx="243720" cy="1238400"/>
              <a:chOff x="5334480" y="2741400"/>
              <a:chExt cx="243720" cy="1238400"/>
            </a:xfrm>
          </p:grpSpPr>
          <p:sp>
            <p:nvSpPr>
              <p:cNvPr id="313" name="Oval 20"/>
              <p:cNvSpPr/>
              <p:nvPr/>
            </p:nvSpPr>
            <p:spPr>
              <a:xfrm>
                <a:off x="5395680" y="3338280"/>
                <a:ext cx="1206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Group 35"/>
              <p:cNvGrpSpPr/>
              <p:nvPr/>
            </p:nvGrpSpPr>
            <p:grpSpPr>
              <a:xfrm>
                <a:off x="5334480" y="2741400"/>
                <a:ext cx="243720" cy="1238400"/>
                <a:chOff x="5334480" y="2741400"/>
                <a:chExt cx="243720" cy="1238400"/>
              </a:xfrm>
            </p:grpSpPr>
            <p:sp>
              <p:nvSpPr>
                <p:cNvPr id="315" name="Straight Connector 22"/>
                <p:cNvSpPr/>
                <p:nvPr/>
              </p:nvSpPr>
              <p:spPr>
                <a:xfrm flipH="1">
                  <a:off x="5455800" y="2741400"/>
                  <a:ext cx="1440" cy="123840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Straight Connector 23"/>
                <p:cNvSpPr/>
                <p:nvPr/>
              </p:nvSpPr>
              <p:spPr>
                <a:xfrm flipH="1" flipV="1">
                  <a:off x="5334480" y="277452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Straight Connector 24"/>
                <p:cNvSpPr/>
                <p:nvPr/>
              </p:nvSpPr>
              <p:spPr>
                <a:xfrm flipH="1" flipV="1">
                  <a:off x="5351760" y="397692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67"/>
            <p:cNvGrpSpPr/>
            <p:nvPr/>
          </p:nvGrpSpPr>
          <p:grpSpPr>
            <a:xfrm>
              <a:off x="2879280" y="4190400"/>
              <a:ext cx="171000" cy="182880"/>
              <a:chOff x="2879280" y="4190400"/>
              <a:chExt cx="171000" cy="182880"/>
            </a:xfrm>
          </p:grpSpPr>
          <p:sp>
            <p:nvSpPr>
              <p:cNvPr id="319" name="Oval 15"/>
              <p:cNvSpPr/>
              <p:nvPr/>
            </p:nvSpPr>
            <p:spPr>
              <a:xfrm>
                <a:off x="2904840" y="423072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35"/>
              <p:cNvGrpSpPr/>
              <p:nvPr/>
            </p:nvGrpSpPr>
            <p:grpSpPr>
              <a:xfrm>
                <a:off x="2879280" y="4190400"/>
                <a:ext cx="171000" cy="182880"/>
                <a:chOff x="2879280" y="4190400"/>
                <a:chExt cx="171000" cy="182880"/>
              </a:xfrm>
            </p:grpSpPr>
            <p:sp>
              <p:nvSpPr>
                <p:cNvPr id="321" name="Straight Connector 17"/>
                <p:cNvSpPr/>
                <p:nvPr/>
              </p:nvSpPr>
              <p:spPr>
                <a:xfrm flipH="1">
                  <a:off x="2963160" y="419040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Straight Connector 18"/>
                <p:cNvSpPr/>
                <p:nvPr/>
              </p:nvSpPr>
              <p:spPr>
                <a:xfrm flipH="1">
                  <a:off x="2879280" y="419508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Straight Connector 19"/>
                <p:cNvSpPr/>
                <p:nvPr/>
              </p:nvSpPr>
              <p:spPr>
                <a:xfrm flipH="1">
                  <a:off x="2891880" y="437328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Line 5"/>
            <p:cNvSpPr/>
            <p:nvPr/>
          </p:nvSpPr>
          <p:spPr>
            <a:xfrm flipV="1">
              <a:off x="962640" y="2129400"/>
              <a:ext cx="5590440" cy="3339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4"/>
          <p:cNvSpPr/>
          <p:nvPr/>
        </p:nvSpPr>
        <p:spPr>
          <a:xfrm>
            <a:off x="4521240" y="4648320"/>
            <a:ext cx="41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good is th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theory  and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112120" y="1522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EST for FIT (Ch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600200" y="914400"/>
                <a:ext cx="3294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 flipV="1">
            <a:off x="838080" y="3200040"/>
            <a:ext cx="3048120" cy="2390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0" y="2793960"/>
          <a:ext cx="45720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3960"/>
                    <a:ext cx="45720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1807200" y="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EST for FIT (Ch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4343400" y="1143000"/>
                <a:ext cx="17892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4952880" y="2057400"/>
                <a:ext cx="1424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Text Box 8"/>
          <p:cNvSpPr/>
          <p:nvPr/>
        </p:nvSpPr>
        <p:spPr>
          <a:xfrm>
            <a:off x="5928120" y="3809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= N -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6248520" y="3124080"/>
            <a:ext cx="533160" cy="228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6777360" y="313992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degre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 flipH="1">
            <a:off x="5866920" y="4343400"/>
            <a:ext cx="7621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4693320" y="464832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7696080" y="4343400"/>
            <a:ext cx="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6038280" y="5045040"/>
            <a:ext cx="312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 of 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ated fro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383520" y="605952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6400800" y="2362320"/>
                <a:ext cx="563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003320" y="1092240"/>
                <a:ext cx="3294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TextBox 16"/>
          <p:cNvSpPr/>
          <p:nvPr/>
        </p:nvSpPr>
        <p:spPr>
          <a:xfrm>
            <a:off x="12240" y="6458040"/>
            <a:ext cx="76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: You can always draw a perfect line through 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76320" y="60948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60948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Line 3"/>
          <p:cNvSpPr/>
          <p:nvPr/>
        </p:nvSpPr>
        <p:spPr>
          <a:xfrm flipV="1">
            <a:off x="990720" y="3808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2362320" y="2666880"/>
            <a:ext cx="761760" cy="762120"/>
            <a:chOff x="2362320" y="2666880"/>
            <a:chExt cx="761760" cy="762120"/>
          </a:xfrm>
        </p:grpSpPr>
        <p:sp>
          <p:nvSpPr>
            <p:cNvPr id="349" name="Line 5"/>
            <p:cNvSpPr/>
            <p:nvPr/>
          </p:nvSpPr>
          <p:spPr>
            <a:xfrm>
              <a:off x="2362320" y="2666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"/>
            <p:cNvSpPr/>
            <p:nvPr/>
          </p:nvSpPr>
          <p:spPr>
            <a:xfrm>
              <a:off x="2362320" y="3429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7"/>
          <p:cNvSpPr/>
          <p:nvPr/>
        </p:nvSpPr>
        <p:spPr>
          <a:xfrm>
            <a:off x="243828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4648320" y="2286000"/>
            <a:ext cx="761760" cy="457200"/>
            <a:chOff x="4648320" y="2286000"/>
            <a:chExt cx="761760" cy="457200"/>
          </a:xfrm>
        </p:grpSpPr>
        <p:sp>
          <p:nvSpPr>
            <p:cNvPr id="353" name="Line 9"/>
            <p:cNvSpPr/>
            <p:nvPr/>
          </p:nvSpPr>
          <p:spPr>
            <a:xfrm>
              <a:off x="4648320" y="2286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>
              <a:off x="4648320" y="2743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Line 11"/>
          <p:cNvSpPr/>
          <p:nvPr/>
        </p:nvSpPr>
        <p:spPr>
          <a:xfrm>
            <a:off x="51814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3400" y="2835360"/>
            <a:ext cx="154584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332680" y="2209680"/>
            <a:ext cx="15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 rot="19237200">
            <a:off x="6418800" y="4564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459720" y="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AST  SQUARES 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5241960" y="3160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328920" y="4114800"/>
            <a:ext cx="20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im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5715000" y="3962520"/>
                <a:ext cx="111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115040" y="3970440"/>
                <a:ext cx="111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21"/>
          <p:cNvSpPr/>
          <p:nvPr/>
        </p:nvSpPr>
        <p:spPr>
          <a:xfrm>
            <a:off x="8313840" y="4078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514600" y="5029200"/>
            <a:ext cx="5257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2741760" y="4800600"/>
            <a:ext cx="534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in terms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 B in terms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586600" y="5562720"/>
            <a:ext cx="18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cula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519880" y="556272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c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7518240" y="5334120"/>
                <a:ext cx="1101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χ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Text Box 27"/>
          <p:cNvSpPr/>
          <p:nvPr/>
        </p:nvSpPr>
        <p:spPr>
          <a:xfrm>
            <a:off x="2630520" y="6248520"/>
            <a:ext cx="35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 probabilit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627960" y="6195960"/>
                <a:ext cx="108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2" name="Text Box 29"/>
          <p:cNvSpPr/>
          <p:nvPr/>
        </p:nvSpPr>
        <p:spPr>
          <a:xfrm>
            <a:off x="1300680" y="762120"/>
            <a:ext cx="7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2166480" y="7621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1206000" y="1352520"/>
            <a:ext cx="41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(x)=A+Bx+C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exp(-Dx)+ln(Ex)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5638680" y="2819520"/>
                <a:ext cx="27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1"/>
          <p:cNvSpPr/>
          <p:nvPr/>
        </p:nvSpPr>
        <p:spPr>
          <a:xfrm>
            <a:off x="1153080" y="136440"/>
            <a:ext cx="714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computer program (for example Origin) can minim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a function of fitting parameters (multi-dimensional landsca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ethod of steepest des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 about rolling a bowling ball in some energy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til it settles at the lowes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"/>
          <p:cNvSpPr/>
          <p:nvPr/>
        </p:nvSpPr>
        <p:spPr>
          <a:xfrm>
            <a:off x="631800" y="1206360"/>
            <a:ext cx="6586560" cy="47372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4"/>
          <p:cNvCxnSpPr/>
          <p:nvPr/>
        </p:nvCxnSpPr>
        <p:spPr>
          <a:xfrm flipH="1" flipV="1">
            <a:off x="447480" y="534240"/>
            <a:ext cx="49680" cy="56142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379" name="Straight Arrow Connector 5"/>
          <p:cNvCxnSpPr/>
          <p:nvPr/>
        </p:nvCxnSpPr>
        <p:spPr>
          <a:xfrm>
            <a:off x="320760" y="6001920"/>
            <a:ext cx="8279280" cy="1044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379440" y="243000"/>
                <a:ext cx="6969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7818480" y="9360"/>
                <a:ext cx="40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2" name="TextBox 12"/>
          <p:cNvSpPr/>
          <p:nvPr/>
        </p:nvSpPr>
        <p:spPr>
          <a:xfrm>
            <a:off x="5545080" y="609912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tting Paramet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14"/>
          <p:cNvCxnSpPr/>
          <p:nvPr/>
        </p:nvCxnSpPr>
        <p:spPr>
          <a:xfrm flipV="1">
            <a:off x="6350400" y="2742480"/>
            <a:ext cx="10440" cy="554760"/>
          </a:xfrm>
          <a:prstGeom prst="straightConnector1">
            <a:avLst/>
          </a:prstGeom>
          <a:ln w="4752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384" name="Oval 15"/>
          <p:cNvSpPr/>
          <p:nvPr/>
        </p:nvSpPr>
        <p:spPr>
          <a:xfrm>
            <a:off x="4309920" y="5710320"/>
            <a:ext cx="174600" cy="183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3132000" y="2665440"/>
            <a:ext cx="23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st fit (lowe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729400" y="3317760"/>
            <a:ext cx="30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times th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s “stuck” in a local minimum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? Give it a “kick” by resetting one of the fitting parameters and trying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12"/>
          <p:cNvCxnSpPr/>
          <p:nvPr/>
        </p:nvCxnSpPr>
        <p:spPr>
          <a:xfrm>
            <a:off x="4350240" y="3588840"/>
            <a:ext cx="50040" cy="1971000"/>
          </a:xfrm>
          <a:prstGeom prst="straightConnector1">
            <a:avLst/>
          </a:prstGeom>
          <a:ln w="4752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88" name="Oval 16"/>
          <p:cNvSpPr/>
          <p:nvPr/>
        </p:nvSpPr>
        <p:spPr>
          <a:xfrm>
            <a:off x="6291360" y="2509920"/>
            <a:ext cx="174600" cy="183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1"/>
          <p:cNvSpPr/>
          <p:nvPr/>
        </p:nvSpPr>
        <p:spPr>
          <a:xfrm>
            <a:off x="-4319640" y="1389240"/>
            <a:ext cx="25233480" cy="4841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329760" y="28260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itting datapoints to y=A*cos(B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2957400" y="2558880"/>
            <a:ext cx="12564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"/>
          <p:cNvSpPr/>
          <p:nvPr/>
        </p:nvSpPr>
        <p:spPr>
          <a:xfrm>
            <a:off x="3459240" y="158256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4040280" y="259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4292640" y="367020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4556160" y="487692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2587680" y="37544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2192400" y="493560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6232680" y="2565360"/>
            <a:ext cx="12528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6734160" y="15890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7246800" y="2616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7480440" y="369720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7772400" y="4902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6"/>
          <p:cNvSpPr/>
          <p:nvPr/>
        </p:nvSpPr>
        <p:spPr>
          <a:xfrm>
            <a:off x="5862600" y="376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7"/>
          <p:cNvSpPr/>
          <p:nvPr/>
        </p:nvSpPr>
        <p:spPr>
          <a:xfrm>
            <a:off x="5632560" y="484488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5126040" y="5915160"/>
            <a:ext cx="127080" cy="134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1232280" y="2535120"/>
            <a:ext cx="14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ect”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21"/>
          <p:cNvCxnSpPr/>
          <p:nvPr/>
        </p:nvCxnSpPr>
        <p:spPr>
          <a:xfrm>
            <a:off x="1463760" y="2975040"/>
            <a:ext cx="13039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55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Pl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7880" y="1066320"/>
            <a:ext cx="850752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-Squared, least-squared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we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Lecture (Prof. Shpyrko is 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7920" y="4898880"/>
            <a:ext cx="822960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2"/>
          <p:cNvSpPr/>
          <p:nvPr/>
        </p:nvSpPr>
        <p:spPr>
          <a:xfrm>
            <a:off x="329760" y="28260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itting datapoints to y=A*cos(B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"/>
          <p:cNvSpPr/>
          <p:nvPr/>
        </p:nvSpPr>
        <p:spPr>
          <a:xfrm>
            <a:off x="2957400" y="2558880"/>
            <a:ext cx="12564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"/>
          <p:cNvSpPr/>
          <p:nvPr/>
        </p:nvSpPr>
        <p:spPr>
          <a:xfrm>
            <a:off x="3459240" y="158256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4040280" y="259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4292640" y="367020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4556160" y="487692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2587680" y="37544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2192400" y="493560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1"/>
          <p:cNvSpPr/>
          <p:nvPr/>
        </p:nvSpPr>
        <p:spPr>
          <a:xfrm>
            <a:off x="6232680" y="2565360"/>
            <a:ext cx="12528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6734160" y="15890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3"/>
          <p:cNvSpPr/>
          <p:nvPr/>
        </p:nvSpPr>
        <p:spPr>
          <a:xfrm>
            <a:off x="7246800" y="2616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4"/>
          <p:cNvSpPr/>
          <p:nvPr/>
        </p:nvSpPr>
        <p:spPr>
          <a:xfrm>
            <a:off x="7480440" y="369720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7772400" y="4902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6"/>
          <p:cNvSpPr/>
          <p:nvPr/>
        </p:nvSpPr>
        <p:spPr>
          <a:xfrm>
            <a:off x="5862600" y="376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7"/>
          <p:cNvSpPr/>
          <p:nvPr/>
        </p:nvSpPr>
        <p:spPr>
          <a:xfrm>
            <a:off x="5632560" y="484488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8"/>
          <p:cNvSpPr/>
          <p:nvPr/>
        </p:nvSpPr>
        <p:spPr>
          <a:xfrm>
            <a:off x="5126040" y="5915160"/>
            <a:ext cx="127080" cy="134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82520" y="1023840"/>
            <a:ext cx="34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ck” i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ima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landscap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121400" y="1584000"/>
            <a:ext cx="120708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6" name="Rectangle 24"/>
          <p:cNvSpPr/>
          <p:nvPr/>
        </p:nvSpPr>
        <p:spPr>
          <a:xfrm>
            <a:off x="7948440" y="1243080"/>
            <a:ext cx="1463760" cy="56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"/>
          <p:cNvSpPr/>
          <p:nvPr/>
        </p:nvSpPr>
        <p:spPr>
          <a:xfrm>
            <a:off x="1768320" y="1401840"/>
            <a:ext cx="3876840" cy="4840200"/>
          </a:xfrm>
          <a:prstGeom prst="pi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0"/>
          <p:cNvSpPr/>
          <p:nvPr/>
        </p:nvSpPr>
        <p:spPr>
          <a:xfrm>
            <a:off x="5565600" y="1455840"/>
            <a:ext cx="3749760" cy="4841640"/>
          </a:xfrm>
          <a:prstGeom prst="pi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"/>
          <p:cNvSpPr/>
          <p:nvPr/>
        </p:nvSpPr>
        <p:spPr>
          <a:xfrm>
            <a:off x="551160" y="2133720"/>
            <a:ext cx="81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on PHYS 2C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day, May 18,  Review L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360" y="8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-term cours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1904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chedule available on We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4080" y="1098720"/>
          <a:ext cx="7856640" cy="5389560"/>
        </p:xfrm>
        <a:graphic>
          <a:graphicData uri="http://schemas.openxmlformats.org/drawingml/2006/table">
            <a:tbl>
              <a:tblPr/>
              <a:tblGrid>
                <a:gridCol w="330480"/>
                <a:gridCol w="863640"/>
                <a:gridCol w="3828960"/>
                <a:gridCol w="2833560"/>
              </a:tblGrid>
              <a:tr h="52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ecture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xpe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.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rror propagation; Oscilloscop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RC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rmal distribution; RLC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atistical analysis, t-value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sonant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view of Expts. 4, 5, 6 and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May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east squares fitting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8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view L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ecture  (UCSD Holiday: Memorial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Formal Reports 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u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ight Arrow 5"/>
          <p:cNvSpPr/>
          <p:nvPr/>
        </p:nvSpPr>
        <p:spPr>
          <a:xfrm>
            <a:off x="0" y="4640400"/>
            <a:ext cx="660240" cy="2394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6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bs Done This Qu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84200" y="1765440"/>
            <a:ext cx="74469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lab hardware &amp;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alog Electronic Circuits (resistors/capac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cillations and Resonant Circuits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nant circuits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fraction &amp; Interference with Micro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agnet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SER diffraction and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nses and the human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671400" y="4194000"/>
            <a:ext cx="660600" cy="2397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9160" y="3257640"/>
            <a:ext cx="13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week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b(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 out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5"/>
          <p:cNvSpPr/>
          <p:nvPr/>
        </p:nvSpPr>
        <p:spPr>
          <a:xfrm>
            <a:off x="701640" y="4943520"/>
            <a:ext cx="660600" cy="2397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6"/>
          <p:cNvSpPr/>
          <p:nvPr/>
        </p:nvSpPr>
        <p:spPr>
          <a:xfrm>
            <a:off x="712800" y="5430960"/>
            <a:ext cx="660240" cy="239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7"/>
          <p:cNvSpPr/>
          <p:nvPr/>
        </p:nvSpPr>
        <p:spPr>
          <a:xfrm>
            <a:off x="723960" y="5864400"/>
            <a:ext cx="660240" cy="2394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904680" y="152280"/>
            <a:ext cx="62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AST  SQUARES  FITTING (Ch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158800" y="91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271840" y="140796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Agreement with the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315760" y="2209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"/>
          <p:cNvSpPr/>
          <p:nvPr/>
        </p:nvSpPr>
        <p:spPr>
          <a:xfrm flipV="1">
            <a:off x="1066680" y="1905120"/>
            <a:ext cx="3505320" cy="396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 flipV="1">
            <a:off x="1066680" y="2895120"/>
            <a:ext cx="3200400" cy="297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 flipV="1">
            <a:off x="1066680" y="2133360"/>
            <a:ext cx="3429000" cy="3733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1066680" y="1752480"/>
            <a:ext cx="350532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 flipV="1">
            <a:off x="1066680" y="1752480"/>
            <a:ext cx="312444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066680" y="1752480"/>
            <a:ext cx="281952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066680" y="1752480"/>
            <a:ext cx="243864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54000" y="1752480"/>
          <a:ext cx="512748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752480"/>
                    <a:ext cx="5127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246840" y="472428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(x) =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1880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800960" y="336600"/>
            <a:ext cx="35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B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– intercept with 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–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152280" y="2119320"/>
          <a:ext cx="473076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4730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5"/>
          <p:cNvSpPr/>
          <p:nvPr/>
        </p:nvSpPr>
        <p:spPr>
          <a:xfrm>
            <a:off x="3240" y="-1224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40" y="6157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553080" y="2590920"/>
          <a:ext cx="1905120" cy="31082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30"/>
          <p:cNvSpPr/>
          <p:nvPr/>
        </p:nvSpPr>
        <p:spPr>
          <a:xfrm flipV="1">
            <a:off x="1066680" y="2209680"/>
            <a:ext cx="3353040" cy="289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159120" y="5105520"/>
            <a:ext cx="450360" cy="777240"/>
            <a:chOff x="159120" y="5105520"/>
            <a:chExt cx="450360" cy="777240"/>
          </a:xfrm>
        </p:grpSpPr>
        <p:sp>
          <p:nvSpPr>
            <p:cNvPr id="88" name="Line 32"/>
            <p:cNvSpPr/>
            <p:nvPr/>
          </p:nvSpPr>
          <p:spPr>
            <a:xfrm>
              <a:off x="609480" y="5105520"/>
              <a:ext cx="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3"/>
            <p:cNvSpPr/>
            <p:nvPr/>
          </p:nvSpPr>
          <p:spPr>
            <a:xfrm>
              <a:off x="159120" y="54230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34"/>
          <p:cNvSpPr/>
          <p:nvPr/>
        </p:nvSpPr>
        <p:spPr>
          <a:xfrm>
            <a:off x="228600" y="51055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5"/>
          <p:cNvSpPr/>
          <p:nvPr/>
        </p:nvSpPr>
        <p:spPr>
          <a:xfrm>
            <a:off x="380880" y="3962520"/>
            <a:ext cx="1981440" cy="24382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205360" y="45720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B=tan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865880" y="304920"/>
            <a:ext cx="26038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808080"/>
                </a:solidFill>
                <a:latin typeface="Comic Sans MS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6652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736880" y="3366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(x) = A +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149400" y="2119320"/>
          <a:ext cx="473040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119320"/>
                    <a:ext cx="47304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6"/>
          <p:cNvSpPr/>
          <p:nvPr/>
        </p:nvSpPr>
        <p:spPr>
          <a:xfrm>
            <a:off x="0" y="-1224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086600" y="380880"/>
          <a:ext cx="1905120" cy="31244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Line 30"/>
          <p:cNvSpPr/>
          <p:nvPr/>
        </p:nvSpPr>
        <p:spPr>
          <a:xfrm flipV="1">
            <a:off x="1143000" y="2209680"/>
            <a:ext cx="1523880" cy="419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1202040" y="21733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-2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 flipV="1">
            <a:off x="914400" y="2819520"/>
            <a:ext cx="3352680" cy="2133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558600" y="3240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9+0.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4736880" y="3366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(x) = A +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149400" y="2119320"/>
          <a:ext cx="473040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119320"/>
                    <a:ext cx="47304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1143000" y="2209680"/>
            <a:ext cx="1523880" cy="419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202040" y="21733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-2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914400" y="2819520"/>
            <a:ext cx="3352680" cy="2133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558600" y="3240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9+0.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038200" y="3645000"/>
            <a:ext cx="40730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&lt;&lt;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;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– 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: same for all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6600" y="380880"/>
          <a:ext cx="1905120" cy="31086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"/>
          <p:cNvSpPr/>
          <p:nvPr/>
        </p:nvSpPr>
        <p:spPr>
          <a:xfrm>
            <a:off x="86652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27640" y="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INEAR  FI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0" y="123336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336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Line 5"/>
          <p:cNvSpPr/>
          <p:nvPr/>
        </p:nvSpPr>
        <p:spPr>
          <a:xfrm flipV="1">
            <a:off x="971640" y="10666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2343240" y="3352680"/>
            <a:ext cx="761760" cy="762120"/>
            <a:chOff x="2343240" y="3352680"/>
            <a:chExt cx="761760" cy="762120"/>
          </a:xfrm>
        </p:grpSpPr>
        <p:sp>
          <p:nvSpPr>
            <p:cNvPr id="120" name="Line 7"/>
            <p:cNvSpPr/>
            <p:nvPr/>
          </p:nvSpPr>
          <p:spPr>
            <a:xfrm>
              <a:off x="234324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234324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241920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4629240" y="2819520"/>
            <a:ext cx="761760" cy="609120"/>
            <a:chOff x="4629240" y="2819520"/>
            <a:chExt cx="761760" cy="609120"/>
          </a:xfrm>
        </p:grpSpPr>
        <p:sp>
          <p:nvSpPr>
            <p:cNvPr id="124" name="Line 11"/>
            <p:cNvSpPr/>
            <p:nvPr/>
          </p:nvSpPr>
          <p:spPr>
            <a:xfrm>
              <a:off x="4629240" y="2819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4629240" y="3428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13"/>
          <p:cNvSpPr/>
          <p:nvPr/>
        </p:nvSpPr>
        <p:spPr>
          <a:xfrm>
            <a:off x="5280120" y="2809800"/>
            <a:ext cx="0" cy="639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184760" y="3429000"/>
            <a:ext cx="108288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f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5406120" y="2895480"/>
            <a:ext cx="10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f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 rot="19237200">
            <a:off x="7155000" y="760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fi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3255120" y="1025640"/>
            <a:ext cx="2617200" cy="703440"/>
            <a:chOff x="3255120" y="1025640"/>
            <a:chExt cx="2617200" cy="703440"/>
          </a:xfrm>
        </p:grpSpPr>
        <p:sp>
          <p:nvSpPr>
            <p:cNvPr id="131" name="Text Box 18"/>
            <p:cNvSpPr/>
            <p:nvPr/>
          </p:nvSpPr>
          <p:spPr>
            <a:xfrm>
              <a:off x="3570480" y="1141560"/>
              <a:ext cx="230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yfi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3255120" y="1025640"/>
              <a:ext cx="48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0"/>
          <p:cNvSpPr/>
          <p:nvPr/>
        </p:nvSpPr>
        <p:spPr>
          <a:xfrm>
            <a:off x="4916880" y="1003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1298520" y="1160640"/>
            <a:ext cx="1749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f th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2855880" y="1406520"/>
            <a:ext cx="53352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277920" y="525600"/>
            <a:ext cx="70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hod of linear regression, aka the least-squares fit…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838080" y="2819160"/>
            <a:ext cx="6553440" cy="1143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20:58:33Z</dcterms:created>
  <dc:creator>Oleg Shpyrko</dc:creator>
  <dc:description/>
  <cp:keywords>2CL</cp:keywords>
  <dc:language>en-US</dc:language>
  <cp:lastModifiedBy>Oleg Shpyrko</cp:lastModifiedBy>
  <dcterms:modified xsi:type="dcterms:W3CDTF">2009-05-07T20:37:15Z</dcterms:modified>
  <cp:revision>160</cp:revision>
  <dc:subject/>
  <dc:title>Slide 1</dc:title>
</cp:coreProperties>
</file>